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954-EDAF-46B0-B766-1D6265F2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BE7-A1CE-4C4E-A38D-0578E93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7E1-CACC-4A5C-A6C5-463E28ED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683-F6C3-4ACD-BC42-EF459D61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6DD0-1B2A-426C-9C2F-B7B7FA09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5D5B-EF9E-4D2C-B2D6-13E77316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1D88-C0BD-4861-B228-9907B40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BE74-7429-4633-AD03-A63DE42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C6D-C94C-4ED6-AB0E-5D6781DB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178-EE3D-48CC-93AB-6A7FBC9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0605-B149-4FF5-915C-9FFE7448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890-3A9C-4E35-A2C7-B132322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677C-B41F-4205-8C82-CDE9A5D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0ECB-3DDE-46D4-8420-90BFC94D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E5CE-6CE2-474E-8C02-CA34F4F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AF2C-9CFF-4CA7-AC6D-C79E3BD6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7B2C-9FC1-41E6-A104-F946198A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318-F35B-4C3F-9AA5-6A1ED59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386-238A-4807-8514-2E78BA8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605-6B1B-4581-9E15-0472FE1B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678-9B55-40EE-837D-E835EC37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9A4-AB9C-4CFE-BE91-F8316F2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323-E90A-4FAC-A446-BA68192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940-95E6-497E-9DCE-7C4AC8A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36A-8C2A-40F9-8A9A-E26C1F1735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ED74-E96E-4FDE-B7BA-E16F5DA412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5240" y="671400"/>
            <a:ext cx="4133520" cy="5043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ASSASSINATION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OF LINCOL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Dylan and Juw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5600" y="2685960"/>
            <a:ext cx="564840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rage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14, 1865 he was attending a performance of the comedy our American cous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there with his wife and childr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shot in the  back of the head by boo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died the next day at 7:22 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Abraham Lincoln Memorial"/>
          <p:cNvPicPr/>
          <p:nvPr/>
        </p:nvPicPr>
        <p:blipFill>
          <a:blip r:embed="rId1"/>
          <a:stretch/>
        </p:blipFill>
        <p:spPr>
          <a:xfrm>
            <a:off x="4800600" y="380880"/>
            <a:ext cx="3952800" cy="3162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or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Washington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tue of him sitting in a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faces towards the reflecting p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may 30, 1922 the building was dedicated to Lincol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tue is made of bronz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ncoln was born February. 12 1809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rn in a log cabin Hardin county, Kentuck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ncolns mother died in 1818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nted to be a lawyer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857320" cy="2847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graphy continued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married to his wife Mary Tod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had 4 sons Robert Todd Lincoln , Edward Baker Lincoln. William Wallace Lincoln, and Thomas Tad Lincol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nteresting fa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the first president to get assassin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created a national banking syst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very depress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patented a system to alter buoyancy of steamboats in 1849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the first president to have a bear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48080" cy="5514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estl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liked to wrestle on his free tim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estling was also known as catch-as-catch-c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entered in a tournament  by his boss without him know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33760" cy="2695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estling continued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restled Jack Armstrong in the tournament in Marion coun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ack started kicking and punching and lincoln picked him up and threw him to the ground knocking him unconsciou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became county champion wrestler twice, once in Indiana and Illino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57680" cy="4515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1860, Lincoln made his first political appea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listed in the election as a republic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he won, he made his strongest rivals his cabin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96240" cy="3990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American cous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a comedic pla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plays most famous performance was at fords theater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ncoln went to visit the play on April 14 of 186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638520" cy="4762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urde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John Wilkes booth was a member of the nineteenth century booth theatrical family from Marylan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He was a very popular a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Booth and a group of co-conspirators he led planned to kill Lincoln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12:17Z</dcterms:created>
  <dc:creator>dylanmstandridge</dc:creator>
  <dc:description/>
  <dc:language>en-US</dc:language>
  <cp:lastModifiedBy>dylanmstandridge</cp:lastModifiedBy>
  <dcterms:modified xsi:type="dcterms:W3CDTF">2009-03-20T12:21:23Z</dcterms:modified>
  <cp:revision>6</cp:revision>
  <dc:subject/>
  <dc:title>ASSASSINATION OF LINCOLN</dc:title>
</cp:coreProperties>
</file>